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0D0-E19B-407A-8858-806A9D4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B99-BD00-4CB1-9DAE-AB2745D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2A0-A742-4563-BC86-75298859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2E7-CCC1-4494-931C-64B675B8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43C-891F-40FA-A112-1942B64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41F-44B2-4B94-AF59-55AF8CD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478-B89A-4E88-873E-FF60AD4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415-673E-4EA2-8F33-CC8DC66B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A36-0512-4A19-8809-9127FFE4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0F4-38AB-40A6-AEBF-0938240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5FA-C7CE-42B7-A21F-C4FE5C2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E35-0E14-4B1B-BF7D-E2AF003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565E-16DA-4F5D-9963-5F63F81DE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d8d0fc"/>
                </a:solidFill>
                <a:latin typeface="Comic Sans MS"/>
              </a:rPr>
              <a:t>Prova</a:t>
            </a:r>
            <a:r>
              <a:rPr b="0" lang="es-ES_tradnl" sz="5400" spc="-1" strike="noStrike">
                <a:solidFill>
                  <a:srgbClr val="d8d0fc"/>
                </a:solidFill>
                <a:latin typeface="Comic Sans MS"/>
              </a:rPr>
              <a:t> de comptei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hi 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2895480"/>
            <a:ext cx="1295640" cy="838440"/>
            <a:chOff x="1066680" y="2895480"/>
            <a:chExt cx="1295640" cy="838440"/>
          </a:xfrm>
        </p:grpSpPr>
        <p:sp>
          <p:nvSpPr>
            <p:cNvPr id="114" name=""/>
            <p:cNvSpPr/>
            <p:nvPr/>
          </p:nvSpPr>
          <p:spPr>
            <a:xfrm>
              <a:off x="1066680" y="2895480"/>
              <a:ext cx="298440" cy="235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8600" y="3164040"/>
              <a:ext cx="299880" cy="234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0240" y="2962440"/>
              <a:ext cx="300240" cy="234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65360" y="3498840"/>
              <a:ext cx="298440" cy="235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333216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66880" y="3429000"/>
            <a:ext cx="1441440" cy="1071360"/>
            <a:chOff x="2666880" y="3429000"/>
            <a:chExt cx="1441440" cy="1071360"/>
          </a:xfrm>
        </p:grpSpPr>
        <p:sp>
          <p:nvSpPr>
            <p:cNvPr id="120" name=""/>
            <p:cNvSpPr/>
            <p:nvPr/>
          </p:nvSpPr>
          <p:spPr>
            <a:xfrm>
              <a:off x="3124080" y="342900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1800" y="380988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388620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411480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4960" y="358128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4190760"/>
              <a:ext cx="298440" cy="2336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388620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7760" y="4267080"/>
              <a:ext cx="298440" cy="2332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hi 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90920" y="2819520"/>
            <a:ext cx="1599840" cy="1600200"/>
            <a:chOff x="2590920" y="2819520"/>
            <a:chExt cx="1599840" cy="1600200"/>
          </a:xfrm>
        </p:grpSpPr>
        <p:sp>
          <p:nvSpPr>
            <p:cNvPr id="131" name=""/>
            <p:cNvSpPr/>
            <p:nvPr/>
          </p:nvSpPr>
          <p:spPr>
            <a:xfrm flipH="1" rot="5400000">
              <a:off x="2818440" y="26668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5400000">
              <a:off x="3580560" y="304776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5400000">
              <a:off x="3429000" y="3810240"/>
              <a:ext cx="457200" cy="761760"/>
            </a:xfrm>
            <a:prstGeom prst="cube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5400000">
              <a:off x="2743200" y="3353040"/>
              <a:ext cx="457200" cy="761760"/>
            </a:xfrm>
            <a:prstGeom prst="cube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6000" y="2590920"/>
            <a:ext cx="2133720" cy="228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4920" y="2819520"/>
            <a:ext cx="762120" cy="1752480"/>
            <a:chOff x="1294920" y="2819520"/>
            <a:chExt cx="762120" cy="1752480"/>
          </a:xfrm>
        </p:grpSpPr>
        <p:sp>
          <p:nvSpPr>
            <p:cNvPr id="137" name=""/>
            <p:cNvSpPr/>
            <p:nvPr/>
          </p:nvSpPr>
          <p:spPr>
            <a:xfrm flipH="1" rot="5400000">
              <a:off x="1446840" y="396216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5400000">
              <a:off x="1446840" y="26668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5400000">
              <a:off x="1446840" y="33526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hi 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14600" y="2743200"/>
            <a:ext cx="1752480" cy="2438280"/>
            <a:chOff x="2514600" y="2743200"/>
            <a:chExt cx="1752480" cy="2438280"/>
          </a:xfrm>
        </p:grpSpPr>
        <p:grpSp>
          <p:nvGrpSpPr>
            <p:cNvPr id="143" name=""/>
            <p:cNvGrpSpPr/>
            <p:nvPr/>
          </p:nvGrpSpPr>
          <p:grpSpPr>
            <a:xfrm>
              <a:off x="2514600" y="2743200"/>
              <a:ext cx="1752480" cy="762120"/>
              <a:chOff x="2514600" y="2743200"/>
              <a:chExt cx="1752480" cy="7621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809880" y="274320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514600" y="274320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200400" y="274320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514600" y="3581280"/>
              <a:ext cx="1752480" cy="762120"/>
              <a:chOff x="2514600" y="3581280"/>
              <a:chExt cx="1752480" cy="76212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3809880" y="358128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14600" y="358128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200400" y="3581280"/>
                <a:ext cx="457200" cy="76212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14600" y="4419720"/>
              <a:ext cx="1752480" cy="761760"/>
              <a:chOff x="2514600" y="4419720"/>
              <a:chExt cx="1752480" cy="76176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3809880" y="4419720"/>
                <a:ext cx="457200" cy="761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514600" y="4419720"/>
                <a:ext cx="457200" cy="761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200400" y="4419720"/>
                <a:ext cx="457200" cy="7617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2209680" y="2514600"/>
            <a:ext cx="2286000" cy="297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90720" y="3124080"/>
            <a:ext cx="1066680" cy="1676520"/>
            <a:chOff x="990720" y="3124080"/>
            <a:chExt cx="1066680" cy="1676520"/>
          </a:xfrm>
        </p:grpSpPr>
        <p:sp>
          <p:nvSpPr>
            <p:cNvPr id="157" name=""/>
            <p:cNvSpPr/>
            <p:nvPr/>
          </p:nvSpPr>
          <p:spPr>
            <a:xfrm flipH="1">
              <a:off x="1600200" y="31240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40384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990720" y="40384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990720" y="3124080"/>
              <a:ext cx="457200" cy="762120"/>
            </a:xfrm>
            <a:prstGeom prst="cube">
              <a:avLst>
                <a:gd name="adj" fmla="val 25000"/>
              </a:avLst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queden dins el p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4495680"/>
            <a:ext cx="1599840" cy="761760"/>
            <a:chOff x="914400" y="4495680"/>
            <a:chExt cx="1599840" cy="761760"/>
          </a:xfrm>
        </p:grpSpPr>
        <p:sp>
          <p:nvSpPr>
            <p:cNvPr id="164" name=""/>
            <p:cNvSpPr/>
            <p:nvPr/>
          </p:nvSpPr>
          <p:spPr>
            <a:xfrm>
              <a:off x="1314360" y="4495680"/>
              <a:ext cx="33300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4360" y="4911120"/>
              <a:ext cx="33300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0920" y="4495680"/>
              <a:ext cx="33336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0880" y="4495680"/>
              <a:ext cx="33336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0920" y="4911120"/>
              <a:ext cx="33336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80880" y="4911120"/>
              <a:ext cx="33336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4911120"/>
              <a:ext cx="33300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4400" y="4495680"/>
              <a:ext cx="333000" cy="34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8862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5720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3505320"/>
            <a:ext cx="1752480" cy="190476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em tr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685800"/>
            <a:ext cx="1752840" cy="175248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3716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1905120"/>
            <a:ext cx="30456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12193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12952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18288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81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17524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038480"/>
            <a:ext cx="1752480" cy="175284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51814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1814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in nombre é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3      6     10   2      9      8   5      0      7   4     23   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12   43    16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mença a comptar des de 1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496040" cy="3678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in és el nombre següent 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5 ...      9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6 ...     13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19 ...    23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mpta enrera del 10 a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in és el nombre anterior 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...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...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...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3733920" cy="3054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s punts has v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657600" y="2971800"/>
            <a:ext cx="714240" cy="762120"/>
            <a:chOff x="3657600" y="2971800"/>
            <a:chExt cx="714240" cy="762120"/>
          </a:xfrm>
        </p:grpSpPr>
        <p:sp>
          <p:nvSpPr>
            <p:cNvPr id="57" name=""/>
            <p:cNvSpPr/>
            <p:nvPr/>
          </p:nvSpPr>
          <p:spPr>
            <a:xfrm>
              <a:off x="3657600" y="2971800"/>
              <a:ext cx="7142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62360" y="3075120"/>
              <a:ext cx="191880" cy="2253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59000" y="3421080"/>
              <a:ext cx="193680" cy="2253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59000" y="3075120"/>
              <a:ext cx="193680" cy="2253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76400" y="3403440"/>
              <a:ext cx="193680" cy="225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38080" y="2971800"/>
            <a:ext cx="714600" cy="762120"/>
            <a:chOff x="838080" y="2971800"/>
            <a:chExt cx="714600" cy="762120"/>
          </a:xfrm>
        </p:grpSpPr>
        <p:sp>
          <p:nvSpPr>
            <p:cNvPr id="63" name=""/>
            <p:cNvSpPr/>
            <p:nvPr/>
          </p:nvSpPr>
          <p:spPr>
            <a:xfrm>
              <a:off x="838080" y="2971800"/>
              <a:ext cx="71460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4160" y="3041640"/>
              <a:ext cx="192240" cy="2239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92240" y="3249720"/>
              <a:ext cx="191880" cy="2235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00320" y="3456000"/>
              <a:ext cx="193680" cy="2253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52480" y="2971800"/>
            <a:ext cx="714240" cy="762120"/>
            <a:chOff x="1752480" y="2971800"/>
            <a:chExt cx="714240" cy="762120"/>
          </a:xfrm>
        </p:grpSpPr>
        <p:sp>
          <p:nvSpPr>
            <p:cNvPr id="68" name=""/>
            <p:cNvSpPr/>
            <p:nvPr/>
          </p:nvSpPr>
          <p:spPr>
            <a:xfrm>
              <a:off x="1752480" y="2971800"/>
              <a:ext cx="7142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71640" y="3059280"/>
              <a:ext cx="149040" cy="1728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54240" y="3059280"/>
              <a:ext cx="149040" cy="1728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71640" y="3282840"/>
              <a:ext cx="14904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4240" y="3282840"/>
              <a:ext cx="14904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54240" y="3524400"/>
              <a:ext cx="149040" cy="1728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85680" y="3506760"/>
              <a:ext cx="149400" cy="1746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24120" y="2971800"/>
            <a:ext cx="714240" cy="762120"/>
            <a:chOff x="2724120" y="2971800"/>
            <a:chExt cx="714240" cy="762120"/>
          </a:xfrm>
        </p:grpSpPr>
        <p:sp>
          <p:nvSpPr>
            <p:cNvPr id="76" name=""/>
            <p:cNvSpPr/>
            <p:nvPr/>
          </p:nvSpPr>
          <p:spPr>
            <a:xfrm>
              <a:off x="2724120" y="2971800"/>
              <a:ext cx="7142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3040" y="3092400"/>
              <a:ext cx="14940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4800" y="3110040"/>
              <a:ext cx="149040" cy="1728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06720" y="3282840"/>
              <a:ext cx="14940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98640" y="3456000"/>
              <a:ext cx="14940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800" y="3456000"/>
              <a:ext cx="149040" cy="1731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62120" y="4343400"/>
            <a:ext cx="1498320" cy="761760"/>
            <a:chOff x="762120" y="4343400"/>
            <a:chExt cx="1498320" cy="761760"/>
          </a:xfrm>
        </p:grpSpPr>
        <p:sp>
          <p:nvSpPr>
            <p:cNvPr id="83" name=""/>
            <p:cNvSpPr/>
            <p:nvPr/>
          </p:nvSpPr>
          <p:spPr>
            <a:xfrm>
              <a:off x="762120" y="4343400"/>
              <a:ext cx="149832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9520" y="4449600"/>
              <a:ext cx="199800" cy="230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7440" y="4449600"/>
              <a:ext cx="199440" cy="230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88760" y="4449600"/>
              <a:ext cx="201240" cy="230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4449600"/>
              <a:ext cx="201240" cy="230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9520" y="4784760"/>
              <a:ext cx="19980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7440" y="4784760"/>
              <a:ext cx="19944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88760" y="4767120"/>
              <a:ext cx="20124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66680" y="4767120"/>
              <a:ext cx="20124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95480" y="4343400"/>
            <a:ext cx="1498680" cy="761760"/>
            <a:chOff x="2895480" y="4343400"/>
            <a:chExt cx="1498680" cy="761760"/>
          </a:xfrm>
        </p:grpSpPr>
        <p:sp>
          <p:nvSpPr>
            <p:cNvPr id="93" name=""/>
            <p:cNvSpPr/>
            <p:nvPr/>
          </p:nvSpPr>
          <p:spPr>
            <a:xfrm>
              <a:off x="2895480" y="4343400"/>
              <a:ext cx="149868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41560" y="4395600"/>
              <a:ext cx="199800" cy="2318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7240" y="4395600"/>
              <a:ext cx="199800" cy="2318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00400" y="4449600"/>
              <a:ext cx="201600" cy="230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41560" y="4821120"/>
              <a:ext cx="19980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97240" y="4821120"/>
              <a:ext cx="19980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22480" y="4767120"/>
              <a:ext cx="20016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11480" y="4591080"/>
              <a:ext cx="199800" cy="2300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Quantes peces hi 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66680" y="2895480"/>
            <a:ext cx="2971800" cy="1905120"/>
            <a:chOff x="1066680" y="2895480"/>
            <a:chExt cx="2971800" cy="1905120"/>
          </a:xfrm>
        </p:grpSpPr>
        <p:sp>
          <p:nvSpPr>
            <p:cNvPr id="104" name=""/>
            <p:cNvSpPr/>
            <p:nvPr/>
          </p:nvSpPr>
          <p:spPr>
            <a:xfrm>
              <a:off x="1066680" y="28954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3505320"/>
              <a:ext cx="685800" cy="533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3048120"/>
              <a:ext cx="685800" cy="533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8280" y="42670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388620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gafa 8 pe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648320" cy="3803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7:22:56Z</dcterms:created>
  <dc:creator>.</dc:creator>
  <dc:description/>
  <dc:language>en-US</dc:language>
  <cp:lastModifiedBy>.</cp:lastModifiedBy>
  <dcterms:modified xsi:type="dcterms:W3CDTF">2005-09-26T21:47:55Z</dcterms:modified>
  <cp:revision>24</cp:revision>
  <dc:subject/>
  <dc:title>Presentación de PowerPoint</dc:title>
</cp:coreProperties>
</file>